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8AB1A-4FC4-4FE3-926F-DFF57F6CE75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2A33A-007A-483E-A148-F8912FC2B6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78DD6-6176-46A8-8034-2F92104F90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24553-8DDD-4E64-BF85-06368609408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CE5A4-464F-4CB2-B411-0C8ACB759D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54E12-99DE-42F7-9F3A-F42CEE044E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7953B-4A1D-45F7-A464-3DE5FFB004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D7BF-BF05-4739-8160-8372510BB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9793-DFF7-4639-9BA7-54109330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A320-F5BC-4C25-8AAE-0A685C0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16C2-84EF-40BC-B693-991F8CA7CE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7301-EEE0-46B5-86B4-1E153D0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9C7C-EDE0-4ABC-8E57-087AEBB2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202F-F090-47A2-80E1-1B4E31B5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06D6-7C08-4E30-A6B8-39F21301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43EC-265F-4F57-B99F-E888DDCD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124A-16E7-427F-BC1F-613D6A0A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F04A-6B39-4CD2-B69C-9B35944E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31F5-F1A4-4CBA-A796-3EFF7339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5E584B-F395-45BB-BA01-E054E3D9273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función de nut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QUÉ ES LA DIF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Qué es la dif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268280"/>
            <a:ext cx="7705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ste en el paso de gases del medio externo a la sangre y viceversa, por tejidos muy finos que permiten dicho paso de g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l líquido circulante llega a los órganos respiratorios, llega cargado de dióxido de carbono y pobre en oxígeno. Por el contrari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ire llega cargado de oxígeno y con poco dióxido de car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 se produce la difusión: el oxígeno irá de donde hay más concentración a donde hay menos (del aire al líquido circulante),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dióxido de carbono hará lo mismo (irá del líquido circulante al air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fusión en los sere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979640" y="5040360"/>
            <a:ext cx="4978440" cy="92160"/>
          </a:xfrm>
          <a:prstGeom prst="roundRect">
            <a:avLst>
              <a:gd name="adj" fmla="val 172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619280" y="4319640"/>
            <a:ext cx="1260360" cy="360360"/>
          </a:xfrm>
          <a:prstGeom prst="rightArrow">
            <a:avLst>
              <a:gd name="adj1" fmla="val 50000"/>
              <a:gd name="adj2" fmla="val 87438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6300720" y="4319640"/>
            <a:ext cx="1260720" cy="360360"/>
          </a:xfrm>
          <a:prstGeom prst="rightArrow">
            <a:avLst>
              <a:gd name="adj1" fmla="val 50000"/>
              <a:gd name="adj2" fmla="val 87463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1619280" y="5400720"/>
            <a:ext cx="1260360" cy="360360"/>
          </a:xfrm>
          <a:prstGeom prst="rightArrow">
            <a:avLst>
              <a:gd name="adj1" fmla="val 50000"/>
              <a:gd name="adj2" fmla="val 87438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6300720" y="5400720"/>
            <a:ext cx="1260720" cy="360360"/>
          </a:xfrm>
          <a:prstGeom prst="rightArrow">
            <a:avLst>
              <a:gd name="adj1" fmla="val 50000"/>
              <a:gd name="adj2" fmla="val 87463"/>
            </a:avLst>
          </a:pr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 rot="9120000">
            <a:off x="3783960" y="4968000"/>
            <a:ext cx="1439640" cy="179640"/>
          </a:xfrm>
          <a:prstGeom prst="leftArrow">
            <a:avLst>
              <a:gd name="adj1" fmla="val 50000"/>
              <a:gd name="adj2" fmla="val 200351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12600000">
            <a:off x="3784320" y="5046480"/>
            <a:ext cx="1439640" cy="179280"/>
          </a:xfrm>
          <a:prstGeom prst="leftArrow">
            <a:avLst>
              <a:gd name="adj1" fmla="val 50000"/>
              <a:gd name="adj2" fmla="val 200753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11280" y="4221000"/>
            <a:ext cx="9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rico en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7559640" y="4176720"/>
            <a:ext cx="90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rico en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7559640" y="531504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gre rica en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39640" y="5280120"/>
            <a:ext cx="126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gre rica en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5148360" y="5400720"/>
            <a:ext cx="5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es-ES" sz="1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5219640" y="450072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66cc"/>
                </a:solidFill>
                <a:latin typeface="Arial"/>
              </a:rPr>
              <a:t>CO</a:t>
            </a:r>
            <a:r>
              <a:rPr b="0" lang="es-ES" sz="1000" spc="-1" strike="noStrike">
                <a:solidFill>
                  <a:srgbClr val="0066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6948360" y="4751280"/>
            <a:ext cx="180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jido de intercamb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Qué es la dif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34920" y="1347840"/>
            <a:ext cx="7885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fusión se puede produci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A través de la piel. Como en las esponjas, los pólipos, los gusan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y algunos anfi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Por branquias. Como en los moluscos, los crustáceos, los pec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y algunos anfi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Por tráqueas. En los insec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Por pulmones. En los anfibios, los reptiles, las aves y los mamíf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fusión en los sere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1440000" y="3780000"/>
            <a:ext cx="2160360" cy="233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2886120" y="3781440"/>
            <a:ext cx="1973160" cy="143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6659640" y="3870360"/>
            <a:ext cx="2233440" cy="170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4824360" y="4680000"/>
            <a:ext cx="19796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0-04T16:36:19Z</dcterms:modified>
  <cp:revision>47</cp:revision>
  <dc:subject/>
  <dc:title>Diapositiva 1</dc:title>
</cp:coreProperties>
</file>